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29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dt" idx="6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ftr" idx="6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 type="sldNum" idx="6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2B412-5876-4F22-83B3-E3727BB24B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fondé sur une approche globale de la santé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resserré sur l’objectif et le résultat à atteind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Qui engage tous les acteurs de santé à développer davantage la transversalité entre les secteurs de la prévention, du sanitaire et du médico-social, et la coordination avec les autres politiques publ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54A2C-DAB7-4FF9-B584-3C48954C75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57BF3-C4E9-44CC-9F44-63E76B7409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6F0F2-A2A1-4BA1-BB84-F3559570AC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D39ED-6FCB-4F81-BB21-C6985DE761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8C470-B6C6-4EF2-B4F3-68C8C769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A07D37-54E5-4A00-BD35-B5576683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E02DA-EC75-420B-A0E4-8AB81DBD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54D53-4683-4815-8DAF-825AC1E9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9CB96B-7911-41DC-ABCE-47FDEF62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6A16B-E2A0-4C3B-9AAA-A8CCECC9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89493-AFFD-4CAB-9386-B3DDE3B4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FBACD-156D-4EBD-A189-A257384A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4DF33-78A8-4702-B923-31DFA6CC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3D0-7FC7-432A-AC38-A808CD27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9962E-0405-4B61-8A13-61A55984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3049F-0710-49CF-8E81-0A529F91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BEA68-EF59-4573-9B80-473BF26C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E483E7-2085-4FBE-AC80-9042DE56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2CE0E-5B50-4D90-BD74-677020AD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09F8E4-A7E4-4E3C-815E-2398BB38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1D8602-5236-4251-B5EB-F8ADA15D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9D9985-748E-4D9F-AB14-3AA47E1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18EBED-185B-4D6C-A4AD-3146F90B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42C2D-757F-4847-B83B-14C74D7C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E7D-2187-4319-ACE7-8F137BB7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D976B7-525C-4CB1-A28C-F6C753E7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27B873-C166-418C-B53F-5A0B535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1ECDA7-2575-4684-AF3F-B6E98438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FCC21F-CB05-4F5C-B7B8-DF0C6571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029081-7BDB-4AF0-BDAD-0CA12CD4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712D3D-8929-438F-A335-67799493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ECC216-5DBA-47B3-9962-A1ED2F79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DD3F81-16E8-4FB1-84B7-F38BF99A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1C7747-5E58-4639-8595-6482D8A1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34E4A9-9662-4782-935B-4FAEB403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24B-FC8E-4CF0-B0A1-EE3ED439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8039CF-1D08-4DC6-858B-EB783504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BE7CC6-FBDC-4D5A-9913-4926E89B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1EC7CC-7256-4816-9DA0-E076B00B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08E922-B25B-43A5-9042-ADE6E4E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762A29-4093-4045-8D0A-A0747CDD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DBF4A4-CFDA-4C8A-B44B-572209B8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9A622B-1DCB-4782-946C-FFBCDE9B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922A3D-899E-4295-B944-E1CE5EEC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FF08F3-52DD-404F-A1F4-B72858D8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22D18F-43B5-4F2D-90B7-D26C0AFC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512-B70B-4DBE-9810-8AF9FA4B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079BDE-C317-4ABB-82FA-B0DD3E95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C8E3B1-F3EA-4D29-AD30-205A4703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22FB23-0D8A-451B-BEEF-05D9A15D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596925-2766-48B5-AF84-CEFFD075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CBDCB4-12F2-4B03-BCD2-7218D7AB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863931-44A1-4AAC-80C8-90A4103D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991BC3-6EAE-4DC6-9929-9FB395D4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BDA2D1-BBD8-4BB5-B787-3F9A18BE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207AD9-CB0B-4A96-9745-C51D06F1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3CEDC5-5EB6-48B2-B247-EE2B096B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E85-732F-4B27-B79E-367A9D5D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751015-B0D5-46E0-ADF2-00B38DDD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A5AC20-9786-492B-AD10-4F74CD61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386324-36C7-4E31-B974-45C36DC1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5FCD2F-FEC3-4664-BD63-3DFA6D2E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28E96F-2084-4B80-8F93-769E7AE7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9E1C41-0559-4A0B-B197-7478B37A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B9F245-9BE8-4742-801D-C8A4DA04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46C919-3E55-4F87-9DA5-24FAF6BB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60E614-A43F-40AC-8027-741CA6C7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F7FFE5-CCCE-48EC-8191-9C489F62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076-52B5-41D6-B1BC-1F751CF2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A88945-F0CD-4C3C-AF4C-C3785361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176170-7648-4430-BA44-432367B4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276725-2188-48E0-9746-3A1088DA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38229E-4B29-435E-B6CB-0C8AB071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CA63B1-F86C-4133-9FB7-D26E946D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85C8F7-B9CA-4E03-8E84-349F7065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8AE9D2-E391-4430-95C4-3DD3EF90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9116DA-CDA4-4F07-8013-5834CFFD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50F9E8-CCAF-4D8F-92A4-C11A8D10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E1ABB6-9E73-496D-801E-78AFF943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5B6-35CB-4997-B81E-C1969790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8A8EF3-8BDE-4D78-ADAF-E67EFD16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3A3B86-1C00-41A6-A8EA-AD02A49F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C45122-6782-4614-A1E8-BB96A339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E8083A-B402-4F9E-938C-5D5A32D6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61FEFD-06D3-4C45-A49D-EA1FB099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5D1CAA-334A-4DC0-9332-CCAE16BB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7F38A7-7AAA-4DD3-A1DD-BFF51905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FF129E-8F61-4F74-A585-CFA4A0F3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00218E-10BC-4FA9-A601-981EAF08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F04D99-545D-4110-98AA-DEAC2CE0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40A-B5C7-4F63-BD43-5455CE50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9A310B-7652-43BB-BAC4-2ECBED21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A418CD-D8B7-4D94-AA91-F1E404E5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F5750F-482E-4024-8FBA-F3E7A28D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4A983B-AFCC-4700-A9EE-0E35FAA1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4C4749-18C5-467F-9961-3C4EB10D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51A3AB-A22B-4584-AD63-44F9DAD6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1CC15C-F6DB-4045-A49C-A716FB3F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1CFC22-840A-4030-8ABC-18DF90B5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91F20C-69CB-4ACC-A9A2-882942F2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00D01C-9EE0-43A5-8966-9D46111B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CA7-6AE5-4013-A75B-E9AD5A3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77A7C7-B8D3-46A6-84AE-C458CF2F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1E443F-0EB6-4C58-827C-3507546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F4ECA3-25B3-468B-8684-524C635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FD3E2A-B785-485A-AEFC-6DAD2B5D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7BBCCB-F275-447C-8907-95271EE3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4A9E8B-38C7-4A69-9C32-2F7D8044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E59455-D764-4131-95D7-EAF472A5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CB503D-91A5-404E-B878-4EA89BF6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81AF6F-3E33-4762-A68C-3ADA2DDC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8F9811-208F-4E55-8062-FE1C7890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C69-82FA-43F2-8D22-68BF3A85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C69D0B-66D6-4702-A0C2-8B5A3E25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046CE3-D0FE-409E-97A0-5835C6ED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D2CFEF-5390-4A77-99A0-9A2CE7B3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CDA469-BB77-4137-862D-06B68EAC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11660B-E429-4E2F-A3A0-4529B85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821E63-EC15-4E11-BA62-C7EC7648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BA9E1A-5429-4A21-ABF1-231AE4D3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2066B5-2DC0-4D08-AB0A-9D7F60C1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9963B5-A603-4FDA-A5D3-E1D44B43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AF42C1-4EBF-462B-8B59-7CAF7D42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731-907E-4D0E-AD99-DA1C8E2B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4986AC-169B-4D9E-A1CC-45C98BC2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13FC48-DC76-4460-B5B2-1FB80CEE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321B82-428C-44B4-AE57-A99C9793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18153F-8C34-46F0-AC1D-28FA4257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965090-77B9-4D35-840D-0CFA3E6B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B753CE-6D74-4FE8-8895-ACA384DE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4DF636-734D-4B54-846B-8DF53F9B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E21C22-9FF7-4981-B5ED-97AA733B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0A2F44-D174-4F90-916E-065488C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5126D8-ADCC-415A-81B7-32376E38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EA6-4063-481E-BED7-8D0247C3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256B40-7219-45AF-8EF2-084C763F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450322-AF89-421A-86BE-42B2BAB8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4AAC4D-A063-49E2-8F12-3D4D17BB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90B326B-6B25-4292-B88B-44A47FBF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619B8C-C3C0-4FA5-9E4C-534D821E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23A268-9AA8-44EE-AE6F-6DBE3EBD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CDC527-E8E7-4707-B89F-2867EF67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720C9B-F3AE-4552-AE50-12294D57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758E75-DB3B-43FB-84F9-591BCCA5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E83C6A-B691-43E9-B0FC-65502E19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1E7DDE-8AA5-435E-A736-4CCF2774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1A41A4-CEAE-4FAA-BFAE-CEC9F669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AC809A-676A-41D6-945B-43C3367E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74E59F-B73B-4026-9995-967DE5185A0C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534D82-7744-4420-B141-649ED92FCFDD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FF2BDC-63EC-4332-B444-92C42ED91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A40E2DD-EB09-4AB2-831B-A9BE0E7805F2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E8DA65-C824-4ED1-8AD8-4AF2D6E0ECE3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A291E9-71ED-4AC2-B223-D636A1FE9ED3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284A2C1-BCB4-45BD-A4BD-F2BE990122C1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9920239-DA50-496C-8167-DE1697E482B0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3C1298-B538-4136-81FF-93CB3044A22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A3C0B0-50C5-4FE8-8EB3-F5461B0C660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B50441-8CB8-4AD9-B74D-A524C0F84E73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2A1192E-49C2-47E0-AF87-216A429F0F2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845029-6F24-4953-A7C1-B6F35901AC6D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FBB0BC-9EF6-4A6C-81C6-A67B960C7ED9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65F98A-297B-4BEA-BE6C-67D4961D9A2A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A15B60-8D6F-49CB-8F76-A900E8766CEE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F76A79-E8C5-4830-810B-3AB26F5016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6BCC23-5B1F-47B0-BAB9-D9A63D685513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6C5EAF-26FB-46E3-846B-5921EBD5F323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91F0DA-068E-4B48-8364-0B8D9507ADEF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1E669E-6DA5-4C89-9B70-4CB5A7DEACFE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46995E-00DC-49F7-ACBF-1A24B7FDBE02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2AC0C-6907-4190-B0DF-A6D6E4AC03A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36C0EC-6DDA-4227-87F6-895911EACD8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73BA7-082A-4467-85B5-F7FCBD9FC9B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B94FC-7D6B-4591-A570-69E003D4456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842E2-A224-45A1-BFA5-6CB72AD835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DA20F-9F9F-4599-94FC-237C80A8BF0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4C88A-31EE-4CC3-8203-9255CE180B5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EF50B-4943-4BD2-91C3-1E101E1C48D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E7482-36B2-4428-AF8A-00A716E2E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C4839-911C-4E27-9731-B3130523A8A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09099-3DEA-4B43-9D78-81A9FBBCFC2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C6444-6626-40EA-8D93-99B1110D9C5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C5BA1-5F2E-4A89-9113-D1B7E676F27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D44CF-5AAF-4FF2-A5E3-F44093965E3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359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01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4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43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2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27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6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69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1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5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53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9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95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1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3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737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1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38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9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7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069F3-D55D-429F-8B07-15A8E7EE6F3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EAC0D-BB5C-42B9-BD50-53DB9250799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E28E1-991A-4F6B-A02B-9FFF6F41B52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C9011-B9E6-494C-B820-F5C4DB910F1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FD691-FAEF-4552-9896-1A891DFC076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AF27C-F770-4185-9062-A5277E904DA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EDA9A-0C74-46CA-963E-D3845AF7A9F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00A8A-7421-46B6-8992-200A558B0AE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52DE8-A2AE-460D-8254-ECB67B6B702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D9C-D5AD-4003-BCCD-4EA81F4C4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101C8-C308-47FC-A5C3-4E90CE71314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AB61D-DF7B-4868-AC3A-7AB0B255CBC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Image 6" descr=""/>
          <p:cNvPicPr/>
          <p:nvPr/>
        </p:nvPicPr>
        <p:blipFill>
          <a:blip r:embed="rId2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400" spc="-1" strike="noStrike">
                <a:solidFill>
                  <a:srgbClr val="2fa17c"/>
                </a:solidFill>
                <a:latin typeface="Microsoft PhagsP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52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sldNum" idx="53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002C0-0E32-4AB3-BF60-E18894D298BE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39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1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5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7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473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5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1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15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5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57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9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99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5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4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41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5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8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83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2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25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6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6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67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dt" idx="6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0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09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6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5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51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6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9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6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933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5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2" descr="I:\DIRECTION_GENERALE\COMMUNICATION\COM INTERNE\REFORME_TERRITORIALE\Outils_enligne_intranet\modele_diaporama\img_ars.jpg"/>
          <p:cNvPicPr/>
          <p:nvPr/>
        </p:nvPicPr>
        <p:blipFill>
          <a:blip r:embed="rId4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sldNum" idx="66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96C42-FC39-4A3C-9713-77C052B67793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1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dt" idx="4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15AB3-077D-46E8-886F-7B2A5CD7FA20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17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csp/explore.cgi/avisrapportsdomaine?clefr=627" TargetMode="External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COTRIM NOUVELLE-AQUITAINE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7 octobre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103320" y="0"/>
            <a:ext cx="2442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7" name="Picture 3" descr=""/>
          <p:cNvPicPr/>
          <p:nvPr/>
        </p:nvPicPr>
        <p:blipFill>
          <a:blip r:embed="rId1"/>
          <a:srcRect l="33437" t="31668" r="16815" b="25001"/>
          <a:stretch/>
        </p:blipFill>
        <p:spPr>
          <a:xfrm>
            <a:off x="3240000" y="4068720"/>
            <a:ext cx="4578480" cy="224316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 txBox="1"/>
          <p:nvPr/>
        </p:nvSpPr>
        <p:spPr>
          <a:xfrm>
            <a:off x="468360" y="1699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PRS c’est </a:t>
            </a:r>
            <a:r>
              <a:rPr b="1" lang="fr-FR" sz="3200" spc="-1" strike="noStrike">
                <a:solidFill>
                  <a:srgbClr val="000000"/>
                </a:solidFill>
                <a:latin typeface="Microsoft PhagsP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Cadre d’orientation stratégique (CO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10 ans : 2018-202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Schéma régional de santé (SR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Programme régional d’accès à la prévention et soins (PRAP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539640" y="2247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Ce qui change avec le PRS de 2</a:t>
            </a:r>
            <a:r>
              <a:rPr b="1" lang="fr-FR" sz="2700" spc="-1" strike="noStrike" baseline="30000">
                <a:solidFill>
                  <a:srgbClr val="000000"/>
                </a:solidFill>
                <a:latin typeface="Microsoft PhagsPa"/>
              </a:rPr>
              <a:t>ème</a:t>
            </a: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 génér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COS plus prospectif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SRS uniq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Alors que l’ancien PRS comportait 3 schémas (prévention, organisation des soins, organisation médico-socia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Construit autour d’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objectifs opérationnels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lisibles et évalu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24000" y="2205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icrosoft PhagsPa"/>
              </a:rPr>
              <a:t>L’élaboration du PRS Nouvelle-Aquitaine s’appuie s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/>
          </p:nvPr>
        </p:nvSpPr>
        <p:spPr>
          <a:xfrm>
            <a:off x="399600" y="256536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diagnostic régional</a:t>
            </a: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, décliné en 12 volets territoriau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(territoires de démocratie sanit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bilan des PRS des anciennes ré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Aquitaine, Limousin et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e évaluation du PRS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Rectangle à coins arrondis 5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itre 1"/>
          <p:cNvSpPr/>
          <p:nvPr/>
        </p:nvSpPr>
        <p:spPr>
          <a:xfrm>
            <a:off x="395280" y="1159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</a:t>
            </a: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DÉMARCHE : ÉLABORATION</a:t>
            </a:r>
            <a:br>
              <a:rPr sz="1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Picture 2" descr=""/>
          <p:cNvPicPr/>
          <p:nvPr/>
        </p:nvPicPr>
        <p:blipFill>
          <a:blip r:embed="rId1"/>
          <a:stretch/>
        </p:blipFill>
        <p:spPr>
          <a:xfrm>
            <a:off x="6012000" y="5230800"/>
            <a:ext cx="1655640" cy="1617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2" descr=""/>
          <p:cNvPicPr/>
          <p:nvPr/>
        </p:nvPicPr>
        <p:blipFill>
          <a:blip r:embed="rId2"/>
          <a:stretch/>
        </p:blipFill>
        <p:spPr>
          <a:xfrm rot="467400">
            <a:off x="6746400" y="3472920"/>
            <a:ext cx="1190880" cy="16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23976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cadre d’orientation stratégique (le C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S ORIENTA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"/>
          <p:cNvSpPr/>
          <p:nvPr/>
        </p:nvSpPr>
        <p:spPr>
          <a:xfrm>
            <a:off x="3924360" y="2975040"/>
            <a:ext cx="3971880" cy="15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8080"/>
                </a:solidFill>
                <a:latin typeface="Calibri"/>
              </a:rPr>
              <a:t>Un objectif clé de voûte</a:t>
            </a:r>
            <a:r>
              <a:rPr b="1" i="1" lang="fr-FR" sz="1800" spc="-1" strike="noStrike">
                <a:solidFill>
                  <a:srgbClr val="9bbb59"/>
                </a:solidFill>
                <a:latin typeface="Calibri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mplifier la transformation du système de santé pour garantir la qualité des réponses aux besoins et l’accessibilité globale au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665440" cy="132552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9080" cy="127332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"/>
          <p:cNvPicPr/>
          <p:nvPr/>
        </p:nvPicPr>
        <p:blipFill>
          <a:blip r:embed="rId3"/>
          <a:stretch/>
        </p:blipFill>
        <p:spPr>
          <a:xfrm>
            <a:off x="324000" y="5187960"/>
            <a:ext cx="2679480" cy="119376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5" descr=""/>
          <p:cNvPicPr/>
          <p:nvPr/>
        </p:nvPicPr>
        <p:blipFill>
          <a:blip r:embed="rId4"/>
          <a:stretch/>
        </p:blipFill>
        <p:spPr>
          <a:xfrm>
            <a:off x="3282840" y="5327640"/>
            <a:ext cx="2778120" cy="11257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6" descr=""/>
          <p:cNvPicPr/>
          <p:nvPr/>
        </p:nvPicPr>
        <p:blipFill>
          <a:blip r:embed="rId5"/>
          <a:stretch/>
        </p:blipFill>
        <p:spPr>
          <a:xfrm>
            <a:off x="6300720" y="5119560"/>
            <a:ext cx="2685960" cy="121140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4"/>
          <p:cNvSpPr/>
          <p:nvPr/>
        </p:nvSpPr>
        <p:spPr>
          <a:xfrm>
            <a:off x="7172280" y="-27000"/>
            <a:ext cx="194472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/>
          </p:nvPr>
        </p:nvSpPr>
        <p:spPr>
          <a:xfrm>
            <a:off x="298440" y="176652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cinq orientations stratégiques du PRS NA …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clinées en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résultats à atteindr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indicateurs trac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politique régionale, dans le cadre de la démarche globale de suivi et d’évaluation du PRS NA</a:t>
            </a:r>
            <a:endParaRPr b="0" lang="en-US" sz="24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3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Les orientations straté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Méthode d’é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2" descr=""/>
          <p:cNvPicPr/>
          <p:nvPr/>
        </p:nvPicPr>
        <p:blipFill>
          <a:blip r:embed="rId1"/>
          <a:srcRect l="34063" t="44168" r="20079" b="45001"/>
          <a:stretch/>
        </p:blipFill>
        <p:spPr>
          <a:xfrm>
            <a:off x="768240" y="4896000"/>
            <a:ext cx="7485120" cy="995040"/>
          </a:xfrm>
          <a:prstGeom prst="rect">
            <a:avLst/>
          </a:prstGeom>
          <a:ln w="0">
            <a:noFill/>
          </a:ln>
        </p:spPr>
      </p:pic>
      <p:sp>
        <p:nvSpPr>
          <p:cNvPr id="2036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à coins arrondis 5"/>
          <p:cNvSpPr/>
          <p:nvPr/>
        </p:nvSpPr>
        <p:spPr>
          <a:xfrm>
            <a:off x="-452520" y="-68400"/>
            <a:ext cx="7416720" cy="1513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</a:t>
            </a:r>
            <a:br>
              <a:rPr sz="2800"/>
            </a:b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STRATÉGIE GLOBALE SUIVI ET ÉVALU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à coins arrondis 7"/>
          <p:cNvSpPr/>
          <p:nvPr/>
        </p:nvSpPr>
        <p:spPr>
          <a:xfrm>
            <a:off x="1782720" y="1863720"/>
            <a:ext cx="3630600" cy="29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ultats attendus à 5 et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à coins arrondis 9"/>
          <p:cNvSpPr/>
          <p:nvPr/>
        </p:nvSpPr>
        <p:spPr>
          <a:xfrm>
            <a:off x="2614680" y="2543040"/>
            <a:ext cx="1966680" cy="92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rientations stratég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à coins arrondis 40"/>
          <p:cNvSpPr/>
          <p:nvPr/>
        </p:nvSpPr>
        <p:spPr>
          <a:xfrm>
            <a:off x="2139840" y="4129200"/>
            <a:ext cx="299736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sultats  attendu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à coins arrondis 82"/>
          <p:cNvSpPr/>
          <p:nvPr/>
        </p:nvSpPr>
        <p:spPr>
          <a:xfrm>
            <a:off x="2511360" y="4865760"/>
            <a:ext cx="225432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à coins arrondis 84"/>
          <p:cNvSpPr/>
          <p:nvPr/>
        </p:nvSpPr>
        <p:spPr>
          <a:xfrm>
            <a:off x="2684520" y="5602320"/>
            <a:ext cx="1908000" cy="71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Modalités de mise en œuvre (Leviers, action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à coins arrondis 26"/>
          <p:cNvSpPr/>
          <p:nvPr/>
        </p:nvSpPr>
        <p:spPr>
          <a:xfrm>
            <a:off x="5867280" y="5140440"/>
            <a:ext cx="1378080" cy="85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27"/>
          <p:cNvSpPr/>
          <p:nvPr/>
        </p:nvSpPr>
        <p:spPr>
          <a:xfrm>
            <a:off x="519120" y="2349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fa17c"/>
                </a:solidFill>
                <a:latin typeface="Calibri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6" name="Connecteur droit avec flèche 45"/>
          <p:cNvCxnSpPr/>
          <p:nvPr/>
        </p:nvCxnSpPr>
        <p:spPr>
          <a:xfrm flipH="1">
            <a:off x="5044320" y="5256000"/>
            <a:ext cx="5547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47" name="Flèche droite 4"/>
          <p:cNvSpPr/>
          <p:nvPr/>
        </p:nvSpPr>
        <p:spPr>
          <a:xfrm rot="16200000">
            <a:off x="3483000" y="5029200"/>
            <a:ext cx="311040" cy="76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3"/>
          <p:cNvSpPr/>
          <p:nvPr/>
        </p:nvSpPr>
        <p:spPr>
          <a:xfrm>
            <a:off x="636480" y="4645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Calibri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lèche droite 49"/>
          <p:cNvSpPr/>
          <p:nvPr/>
        </p:nvSpPr>
        <p:spPr>
          <a:xfrm rot="16200000">
            <a:off x="3391560" y="3369240"/>
            <a:ext cx="395280" cy="765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Connecteur droit 15"/>
          <p:cNvSpPr/>
          <p:nvPr/>
        </p:nvSpPr>
        <p:spPr>
          <a:xfrm flipV="1">
            <a:off x="3638520" y="4590720"/>
            <a:ext cx="0" cy="2746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Connecteur droit 56"/>
          <p:cNvSpPr/>
          <p:nvPr/>
        </p:nvSpPr>
        <p:spPr>
          <a:xfrm flipV="1">
            <a:off x="3598920" y="2155680"/>
            <a:ext cx="0" cy="387360"/>
          </a:xfrm>
          <a:prstGeom prst="line">
            <a:avLst/>
          </a:prstGeom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à coins arrondis 65"/>
          <p:cNvSpPr/>
          <p:nvPr/>
        </p:nvSpPr>
        <p:spPr>
          <a:xfrm>
            <a:off x="6156360" y="1889280"/>
            <a:ext cx="123336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c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à coins arrondis 67"/>
          <p:cNvSpPr/>
          <p:nvPr/>
        </p:nvSpPr>
        <p:spPr>
          <a:xfrm>
            <a:off x="5867280" y="3900600"/>
            <a:ext cx="16131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Connecteur droit avec flèche 118"/>
          <p:cNvCxnSpPr/>
          <p:nvPr/>
        </p:nvCxnSpPr>
        <p:spPr>
          <a:xfrm flipH="1">
            <a:off x="5017320" y="2531880"/>
            <a:ext cx="996120" cy="1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cxnSp>
        <p:nvCxnSpPr>
          <p:cNvPr id="2055" name="Connecteur droit avec flèche 124"/>
          <p:cNvCxnSpPr/>
          <p:nvPr/>
        </p:nvCxnSpPr>
        <p:spPr>
          <a:xfrm flipH="1">
            <a:off x="5320800" y="4360680"/>
            <a:ext cx="388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56" name="Connecteur droit avec flèche 125"/>
          <p:cNvCxnSpPr/>
          <p:nvPr/>
        </p:nvCxnSpPr>
        <p:spPr>
          <a:xfrm flipV="1">
            <a:off x="6536880" y="3068280"/>
            <a:ext cx="1080" cy="550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sp>
        <p:nvSpPr>
          <p:cNvPr id="2057" name="Accolade fermante 12"/>
          <p:cNvSpPr/>
          <p:nvPr/>
        </p:nvSpPr>
        <p:spPr>
          <a:xfrm>
            <a:off x="7680240" y="3705120"/>
            <a:ext cx="216000" cy="23432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2343240"/>
              <a:gd name="textAreaBottom" fmla="*/ 233784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Accolade fermante 28"/>
          <p:cNvSpPr/>
          <p:nvPr/>
        </p:nvSpPr>
        <p:spPr>
          <a:xfrm>
            <a:off x="7581960" y="1879560"/>
            <a:ext cx="217440" cy="126684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266840"/>
              <a:gd name="textAreaBottom" fmla="*/ 126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ZoneTexte 14"/>
          <p:cNvSpPr/>
          <p:nvPr/>
        </p:nvSpPr>
        <p:spPr>
          <a:xfrm>
            <a:off x="7896240" y="2349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ZoneTexte 30"/>
          <p:cNvSpPr/>
          <p:nvPr/>
        </p:nvSpPr>
        <p:spPr>
          <a:xfrm>
            <a:off x="8147160" y="47005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1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mplifier les actions sur les déterminants de santé et la promotion de la santé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Diminution de l’obésité et du surpoids dans la population de Nouvelle-Aquitaine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s :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Part des enfants obèses et en surcharge pondérale en classe de 6ème en Nouvelle-Aquitaine.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2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Promouvoir un accès équitable à la santé sur les territoires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Diminution de la mortalité prématurée évitable  au niveau de la région et de ses départements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  <a:ea typeface="Arial"/>
              </a:rPr>
              <a:t>►</a:t>
            </a: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Taux de mortalité prématuré évitable par les actions de prévention</a:t>
            </a:r>
            <a:r>
              <a:rPr b="0" lang="fr-FR" sz="1800" spc="-1" strike="noStrike">
                <a:solidFill>
                  <a:srgbClr val="1f497d"/>
                </a:solidFill>
                <a:latin typeface="Microsoft PhagsPa"/>
              </a:rPr>
              <a:t> 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7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à coins arrondis 7"/>
          <p:cNvSpPr/>
          <p:nvPr/>
        </p:nvSpPr>
        <p:spPr>
          <a:xfrm>
            <a:off x="-455760" y="-27000"/>
            <a:ext cx="7417080" cy="1511280"/>
          </a:xfrm>
          <a:prstGeom prst="roundRect">
            <a:avLst>
              <a:gd name="adj" fmla="val 16667"/>
            </a:avLst>
          </a:prstGeom>
          <a:solidFill>
            <a:srgbClr val="2fa17c"/>
          </a:solidFill>
          <a:ln w="25560">
            <a:solidFill>
              <a:srgbClr val="31b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1- SNS ET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95280" y="17510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SNS : 4 prior</a:t>
            </a:r>
            <a:r>
              <a:rPr b="0" lang="fr-FR" sz="2800" spc="-1" strike="noStrike">
                <a:solidFill>
                  <a:srgbClr val="00808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tés déjà déclinées au sein du projet de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395280" y="2760840"/>
            <a:ext cx="707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prévention et la promotion de la santé, tout au long de la vie et dans tous les mil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lutte contre les inégalités sociales et territoriales d’accès à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nécessité d’accroître la pertinence et la qualité des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’innovation organisationnelle, médicale, technologique ou numérique mise au service de tous et répondre aux besoins prioritaires en san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à coins arrondis 9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’INTÉGRATION DE LA STRATÉ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ATIONAL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7" name="Groupe 15"/>
          <p:cNvGrpSpPr/>
          <p:nvPr/>
        </p:nvGrpSpPr>
        <p:grpSpPr>
          <a:xfrm>
            <a:off x="6716880" y="3825720"/>
            <a:ext cx="1498320" cy="1900440"/>
            <a:chOff x="6716880" y="3825720"/>
            <a:chExt cx="1498320" cy="1900440"/>
          </a:xfrm>
        </p:grpSpPr>
        <p:pic>
          <p:nvPicPr>
            <p:cNvPr id="2078" name="Picture 4" descr=""/>
            <p:cNvPicPr/>
            <p:nvPr/>
          </p:nvPicPr>
          <p:blipFill>
            <a:blip r:embed="rId1"/>
            <a:srcRect l="34069" t="10031" r="32970" b="6945"/>
            <a:stretch/>
          </p:blipFill>
          <p:spPr>
            <a:xfrm>
              <a:off x="6868080" y="3825720"/>
              <a:ext cx="1156320" cy="19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Rectangle 14" descr=""/>
            <p:cNvPicPr/>
            <p:nvPr/>
          </p:nvPicPr>
          <p:blipFill>
            <a:blip r:embed="rId2"/>
            <a:stretch/>
          </p:blipFill>
          <p:spPr>
            <a:xfrm>
              <a:off x="6716880" y="4205880"/>
              <a:ext cx="1498320" cy="147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0" name="Titre 1"/>
          <p:cNvGrpSpPr/>
          <p:nvPr/>
        </p:nvGrpSpPr>
        <p:grpSpPr>
          <a:xfrm>
            <a:off x="-781200" y="-49320"/>
            <a:ext cx="7688520" cy="1994040"/>
            <a:chOff x="-781200" y="-49320"/>
            <a:chExt cx="7688520" cy="1994040"/>
          </a:xfrm>
        </p:grpSpPr>
        <p:pic>
          <p:nvPicPr>
            <p:cNvPr id="2081" name="Titre 1" descr=""/>
            <p:cNvPicPr/>
            <p:nvPr/>
          </p:nvPicPr>
          <p:blipFill>
            <a:blip r:embed="rId3"/>
            <a:stretch/>
          </p:blipFill>
          <p:spPr>
            <a:xfrm>
              <a:off x="-781200" y="-49320"/>
              <a:ext cx="76885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2" name=""/>
            <p:cNvSpPr/>
            <p:nvPr/>
          </p:nvSpPr>
          <p:spPr>
            <a:xfrm>
              <a:off x="-662040" y="68400"/>
              <a:ext cx="7443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717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076400"/>
                  <a:tab algn="l" pos="2152800"/>
                  <a:tab algn="l" pos="3228840"/>
                  <a:tab algn="l" pos="4305240"/>
                  <a:tab algn="l" pos="5381640"/>
                  <a:tab algn="l" pos="6458040"/>
                  <a:tab algn="l" pos="7534440"/>
                  <a:tab algn="l" pos="8610480"/>
                  <a:tab algn="l" pos="9686880"/>
                  <a:tab algn="l" pos="10763280"/>
                </a:tabLst>
              </a:pP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	</a:t>
              </a: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LE </a:t>
              </a:r>
              <a:r>
                <a:rPr b="1" lang="fr-FR" sz="3200" spc="-1" strike="noStrike">
                  <a:solidFill>
                    <a:srgbClr val="ffffff"/>
                  </a:solidFill>
                  <a:latin typeface="Microsoft PhagsPa"/>
                </a:rPr>
                <a:t>SCHÉMA RÉGIONAL DE SANTÉ : ETAT D’AVANC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ZoneTexte 2"/>
          <p:cNvSpPr/>
          <p:nvPr/>
        </p:nvSpPr>
        <p:spPr>
          <a:xfrm>
            <a:off x="250920" y="2173320"/>
            <a:ext cx="8281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Des productions thématiques issues de la conce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lèche droite 4"/>
          <p:cNvSpPr/>
          <p:nvPr/>
        </p:nvSpPr>
        <p:spPr>
          <a:xfrm>
            <a:off x="176364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lèche droite 5"/>
          <p:cNvSpPr/>
          <p:nvPr/>
        </p:nvSpPr>
        <p:spPr>
          <a:xfrm>
            <a:off x="392112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ZoneTexte 7"/>
          <p:cNvSpPr/>
          <p:nvPr/>
        </p:nvSpPr>
        <p:spPr>
          <a:xfrm>
            <a:off x="250920" y="3322800"/>
            <a:ext cx="15127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31 groupes de travail / 94 réunions  / 165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ZoneTexte 8"/>
          <p:cNvSpPr/>
          <p:nvPr/>
        </p:nvSpPr>
        <p:spPr>
          <a:xfrm>
            <a:off x="2365200" y="3335400"/>
            <a:ext cx="15559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Relecture, modification, restructuration des 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ZoneTexte 9"/>
          <p:cNvSpPr/>
          <p:nvPr/>
        </p:nvSpPr>
        <p:spPr>
          <a:xfrm>
            <a:off x="4643280" y="3336840"/>
            <a:ext cx="14335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Document  de travail interméd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5 axes (OS) - 25 thè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ZoneTexte 10"/>
          <p:cNvSpPr/>
          <p:nvPr/>
        </p:nvSpPr>
        <p:spPr>
          <a:xfrm>
            <a:off x="6443640" y="3336840"/>
            <a:ext cx="1771560" cy="3070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97d"/>
                </a:solidFill>
                <a:latin typeface="Calibri"/>
              </a:rPr>
              <a:t>Projet de 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lèche droite 11"/>
          <p:cNvSpPr/>
          <p:nvPr/>
        </p:nvSpPr>
        <p:spPr>
          <a:xfrm>
            <a:off x="6076800" y="424008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Ellipse 16"/>
          <p:cNvSpPr/>
          <p:nvPr/>
        </p:nvSpPr>
        <p:spPr>
          <a:xfrm>
            <a:off x="5772240" y="3206880"/>
            <a:ext cx="2336760" cy="2303280"/>
          </a:xfrm>
          <a:prstGeom prst="ellipse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845BD-FABE-4E43-B35F-999DA95421EC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1122480" y="777960"/>
          <a:ext cx="6980040" cy="611496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ATÉGIE NATIONALE DE SANT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- DR VÉRONIQUE GILLERON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2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PPEL A PROJET ARS ANNUEL POUR DÉVELOPPER LES ACTIONS DE PRÉVENTION HORS LES MURS PAR LES ÉTABLISSEMENTS DE SAN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ristophe CAILLIEREZ (DIRECTION DE LA SANTÉ PUBLIQUE – ARS 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3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JET RÉGIONAL DE SANTÉ NOUVELLE-AQUITAINE : SON ACTUAL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ISABELLE JAM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12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4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 CONTRÔLES T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MPAGNE DE CONTRÔLE 2017 – 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ÉSENTATION DE L’ÉTUDE CRIMA – DR ELISABETH CAPDENAT-RAYM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ALITÉS DE CONTRÔLES – DR  VÉRONIQUE GILL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5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OINT SUR LES GROUPES DE TRAVAIL DU COT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6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FIDENTIALITÉ DES DONNÉES : RAPPEL DE LA RÉG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PAUL CHA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7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CTUALITÉ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AMDA, ENC, EMOIS-ADELF, JOURNÉES DU GRAND SUD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ATES DES PROCHAINES REUNIONS PLENIERES DU COTRIM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               </a:t>
            </a: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PRS Nouvelle-Aquit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          </a:t>
            </a: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 Calend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4" name=""/>
          <p:cNvGraphicFramePr/>
          <p:nvPr/>
        </p:nvGraphicFramePr>
        <p:xfrm>
          <a:off x="826920" y="2924280"/>
          <a:ext cx="7091640" cy="2131920"/>
        </p:xfrm>
        <a:graphic>
          <a:graphicData uri="http://schemas.openxmlformats.org/drawingml/2006/table">
            <a:tbl>
              <a:tblPr/>
              <a:tblGrid>
                <a:gridCol w="2376720"/>
                <a:gridCol w="471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. – 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suite relecture / mise en for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s de travail intermédiaires P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1 avant intégration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.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2 intégrant les orientations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. – Avril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tion lég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ment PRS et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5" name="Rectangle 1"/>
          <p:cNvSpPr/>
          <p:nvPr/>
        </p:nvSpPr>
        <p:spPr>
          <a:xfrm>
            <a:off x="409680" y="177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Calendrier amendé d’élaboration du PRS Nouvelle-Aquit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Espace réservé de la date 2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17400" y="2943000"/>
            <a:ext cx="7569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LES CONTRÔLES T2A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32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0B61C-9998-4D6A-A006-E16528CA74B1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312560"/>
            <a:ext cx="83329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thèmes retenus au plan régional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actes et consultations externes facturés en hospitalisation de jour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séjours avec comorbidités pour lesquels le ciblage s’est orienté sur le niveau de sévérité 3 et 4 (voire 2) (thème sanctionnable)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 codage du D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ériode contrôlée : du 1</a:t>
            </a:r>
            <a:r>
              <a:rPr b="0" lang="fr-FR" sz="2800" spc="-1" strike="noStrike" baseline="30000">
                <a:solidFill>
                  <a:srgbClr val="000066"/>
                </a:solidFill>
                <a:latin typeface="Calibri"/>
              </a:rPr>
              <a:t>er</a:t>
            </a: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 mars au 31 décembre 2016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1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5974C-D3B4-4E59-81B2-685741E0A957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252360" y="1312560"/>
            <a:ext cx="8020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17 établissements contrôlés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: 1 clinique privée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Maritim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rrèze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Gironde : 3 cliniques privées, 1 ESPIC, 1 CLCC,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ot et Garonn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yrénées Atlantiques : 1 CH, 3 cliniques privé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ux Sèvres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3E48E-B8AB-4C56-9807-4452D235BD6B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12840" y="2433600"/>
            <a:ext cx="788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POINT SUR LES GROUPES DE TRAVAIL</a:t>
            </a:r>
            <a:br>
              <a:rPr sz="39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25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E87EF-B138-4EA7-AEA4-30797D4AF163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icrosoft PhagsPa"/>
              </a:rPr>
              <a:t>GROUPES DE TRAVAIL COTRIM NA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6840" y="1564920"/>
            <a:ext cx="78152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principes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Objectif : travailler sur la qualité des données et sur l’analyse du champ en fonction des thématiques défini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4 groupes, 1 par cham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2 dates « bloquées »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16 novembre et 7 décembre de 8 à 18h salle 353 (capacité 16p)  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Groupe psychiatrie 18 octobre et 22 novembre 2017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9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4E965-82B5-4684-91D3-2BF6AE905F8A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C6754-DC05-40A3-B708-8A51C1D5A0F2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3" name=""/>
          <p:cNvGraphicFramePr/>
          <p:nvPr/>
        </p:nvGraphicFramePr>
        <p:xfrm>
          <a:off x="590400" y="2697120"/>
          <a:ext cx="7583760" cy="2475000"/>
        </p:xfrm>
        <a:graphic>
          <a:graphicData uri="http://schemas.openxmlformats.org/drawingml/2006/table">
            <a:tbl>
              <a:tblPr/>
              <a:tblGrid>
                <a:gridCol w="3289320"/>
                <a:gridCol w="429444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BERGEAL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Denis REVIRON - Cliniques NAVARRE - MARZET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Anne Marie RULLION PAC SOO  - CH AGEN-NERAC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etab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382D6-2B11-46F6-A3A4-403587B2329D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609480" y="2549520"/>
          <a:ext cx="7810560" cy="2128680"/>
        </p:xfrm>
        <a:graphic>
          <a:graphicData uri="http://schemas.openxmlformats.org/drawingml/2006/table">
            <a:tbl>
              <a:tblPr/>
              <a:tblGrid>
                <a:gridCol w="3630600"/>
                <a:gridCol w="4179960"/>
              </a:tblGrid>
              <a:tr h="561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 BERGEAL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 row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Nathalie CABON-ASENCIO – DIM MSP Bagatelle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S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79AB1-8A33-47F3-8A9F-5F7EFBC0172E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569880" y="2697120"/>
          <a:ext cx="8029440" cy="1847880"/>
        </p:xfrm>
        <a:graphic>
          <a:graphicData uri="http://schemas.openxmlformats.org/drawingml/2006/table">
            <a:tbl>
              <a:tblPr/>
              <a:tblGrid>
                <a:gridCol w="3343320"/>
                <a:gridCol w="468612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39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Béatrice JANVOIE-OUILLET  - GH LA ROCHELLE RE-AUNIS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étab.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-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PSYCHIA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1C609-BC56-4A84-93F5-49D86DB14CE6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517680" y="2124000"/>
          <a:ext cx="7792920" cy="3176640"/>
        </p:xfrm>
        <a:graphic>
          <a:graphicData uri="http://schemas.openxmlformats.org/drawingml/2006/table">
            <a:tbl>
              <a:tblPr/>
              <a:tblGrid>
                <a:gridCol w="3665520"/>
                <a:gridCol w="4127400"/>
              </a:tblGrid>
              <a:tr h="531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 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orinne FREIMANN - CH LA CANDELIE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nédicte SOULA - CH des PYRENEES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ranck CHALARD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LANGLOIS-GEY 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ul FORCET  - CH CAMILLE  CLAUDEL (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Roland BOUET - CH Henri LABORI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Isabelle BLANCHARD - CH COTE BASQUE SUD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antal BERGEY - CH CHARLES PERRENS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ristine BOUVIER - ASSOCIATION RENOVATION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rénice BRECHAT-HUET -  CH de CADILLAC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6" name="Tableau 12" descr=""/>
          <p:cNvPicPr/>
          <p:nvPr/>
        </p:nvPicPr>
        <p:blipFill>
          <a:blip r:embed="rId1"/>
          <a:stretch/>
        </p:blipFill>
        <p:spPr>
          <a:xfrm>
            <a:off x="4187880" y="3333600"/>
            <a:ext cx="76824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Objet 13"/>
          <p:cNvGraphicFramePr/>
          <p:nvPr/>
        </p:nvGraphicFramePr>
        <p:xfrm>
          <a:off x="517680" y="5753160"/>
          <a:ext cx="4330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8" name="Obje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753160"/>
                    <a:ext cx="433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Stratégie nationale de santé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et bases de données médicales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Véronique GILLER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0" y="0"/>
            <a:ext cx="2443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Nationale de San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 principe d'une stratégie nationale de santé a été posé à l'article 1er de la loi du 26 janvier 2016 de "modernisation de notre système de santé", et son élaboration encadrée par un décret publié fin novembr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s domaines d’action prioritaires et des objectifs d’amélioration de la santé et de la protection sociale contr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C4AA9-FDD8-47DA-99B7-3E820FBF2E76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Saisine Haut Conseil Santé Publ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31360" y="1312560"/>
            <a:ext cx="81550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aisine du 17 mai 20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le Secrétariat général des ministères chargés des affaires sociales (SGMCAS) et la Direction générale de la santé (DGS) ont sollicité l’avis HCSP sur la stratégie nationale de santé (S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Conférence de presse ministre le 18 sept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ublication des travaux sur le site HCS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csp.fr/explore.cgi/avisrapportsdomaine?clefr=6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hase de concertation avant publication des textes offici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tratégie nationale de santé sera déclinée en région dans le cadre de projets territoriaux 1</a:t>
            </a:r>
            <a:r>
              <a:rPr b="0" lang="fr-FR" sz="2700" spc="-1" strike="noStrike" baseline="30000">
                <a:solidFill>
                  <a:srgbClr val="00808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 semestre 20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8F54B-2880-4721-A1AE-6CBCC94891BF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révention et promotion de la santé : axe essentiel de la S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000" spc="-1" strike="noStrike">
                <a:solidFill>
                  <a:srgbClr val="008080"/>
                </a:solidFill>
                <a:latin typeface="Calibri"/>
              </a:rPr>
              <a:t>Sept principaux objectif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alimentation saine et activité phys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maladies infectie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Lutte contre les conduites addi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e la santé men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’un environnement et de conditions de travail favorables à la san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Amélioration du dépi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de perte d’autonom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Espace réservé du numéro de diapositive 5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AAA67-46E5-4513-BBB1-B5FCC29B0A53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d’action pour une S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60360" y="131292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ilotage par indica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Renforcement de l’accès aux données et des    systèmes d’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 pilotage stratégique et opérati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e évaluation de la 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Plan national de santé publ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08400" indent="-32436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hérence des objectifs et des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67DA8-BD4A-475B-84CB-2CADF9B64B47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rt 35 projet PLF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12920"/>
            <a:ext cx="8083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Cadre des expérimentations pour de nouvelles organisations (innovation organisationne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Emergence de nouvelles organisations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. concourant à l’amélioration de la prise en charge et du parcours patient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« décloisonner la prise en charge des patients pour une séquence de soin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014D4-1D4B-43F3-8D43-713ACEC0BD68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Titre 1"/>
          <p:cNvGrpSpPr/>
          <p:nvPr/>
        </p:nvGrpSpPr>
        <p:grpSpPr>
          <a:xfrm>
            <a:off x="-633240" y="450720"/>
            <a:ext cx="7394400" cy="5023080"/>
            <a:chOff x="-633240" y="450720"/>
            <a:chExt cx="7394400" cy="5023080"/>
          </a:xfrm>
        </p:grpSpPr>
        <p:pic>
          <p:nvPicPr>
            <p:cNvPr id="2005" name="Titre 1" descr=""/>
            <p:cNvPicPr/>
            <p:nvPr/>
          </p:nvPicPr>
          <p:blipFill>
            <a:blip r:embed="rId1"/>
            <a:stretch/>
          </p:blipFill>
          <p:spPr>
            <a:xfrm>
              <a:off x="-633240" y="450720"/>
              <a:ext cx="739440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-369720" y="719280"/>
              <a:ext cx="685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2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PROJET RÉGIONAL DE SANTÉ NOUVELLE-AQUITAINE</a:t>
              </a:r>
              <a:br>
                <a:rPr sz="43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SON ACTUALITÉ</a:t>
              </a:r>
              <a:br>
                <a:rPr sz="3600"/>
              </a:br>
              <a:br>
                <a:rPr sz="3600"/>
              </a:br>
              <a:r>
                <a:rPr b="1" lang="fr-FR" sz="2500" spc="-1" strike="noStrike">
                  <a:solidFill>
                    <a:srgbClr val="ffffff"/>
                  </a:solidFill>
                  <a:latin typeface="Microsoft PhagsPa"/>
                </a:rPr>
                <a:t>DR ISABELLE JAMET</a:t>
              </a:r>
              <a:br>
                <a:rPr sz="3600"/>
              </a:br>
              <a:br>
                <a:rPr sz="3600"/>
              </a:b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8:27:43Z</dcterms:created>
  <dc:creator>delusk</dc:creator>
  <dc:description/>
  <dc:language>en-US</dc:language>
  <cp:lastModifiedBy>Isabelle Jamet</cp:lastModifiedBy>
  <cp:lastPrinted>2017-10-17T10:33:24Z</cp:lastPrinted>
  <dcterms:modified xsi:type="dcterms:W3CDTF">2017-10-17T10:34:04Z</dcterms:modified>
  <cp:revision>58</cp:revision>
  <dc:subject/>
  <dc:title>Diapositive 1</dc:title>
</cp:coreProperties>
</file>